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851-3537-43AA-B37C-037B1B32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0CD-2FEB-4563-93C2-56260298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C07-B2B9-4EA1-A9A6-6F7ED563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372-69E2-4B11-9E1C-01772E5B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082D-A620-4D7B-BD8A-E6236E62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34FF-C127-4109-81A3-0149EFD3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3AD1-A82A-49E6-AE07-EC2B0E03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57F1-942E-4D40-8DEF-57FD4471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340B-ABC1-46D4-BA34-61D8133C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B395-E315-4CCF-9472-AA1ACC3A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8EF9-1E8F-48C7-B359-54AAC042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D2F-67F4-4CBB-A0F8-5F76C3A7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F28F-DE50-4FC5-A0B1-626A7952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74EE-FE01-4BF5-8270-D0404DBF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B0BF-EF65-4435-98BB-D8BF9BE5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53DF-2E74-4E11-BB08-7EBF7077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1801-7757-4B5D-824F-74D5418C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87C-9E58-4AE7-A1B3-608E264F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1F1-756D-421E-AEC4-5F9247D8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A42-6773-49E1-A902-0B270EC7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C3A-9ADC-40D9-A021-FE3EA8BA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1B04-16CD-4F41-BCFE-6B42EC4C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66A9-BC2F-4FEB-BC3D-06C29B81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B45-93E9-4256-94DE-90FFC408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802C-FCAE-4D43-BE71-2C5EB554E3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FC43-2794-46CF-8C89-406E346E46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pg 225 #1-1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  for x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=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e that a calculator assumes all logs are base 1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og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 calculator to evalu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5 – Ln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ssignment: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age 236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#1-41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Lesson 3.2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45820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=1000(0.5)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/3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people be able to live in the area surrounding Chernobyl in 205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ill the area surrounding Chernobyl be considered safe for human habi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garithmic 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y = Log</a:t>
            </a:r>
            <a:r>
              <a:rPr b="0" lang="en-US" sz="83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8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xponential 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x = a</a:t>
            </a:r>
            <a:r>
              <a:rPr b="0" lang="en-US" sz="8300" spc="-1" strike="noStrike" baseline="30000">
                <a:solidFill>
                  <a:srgbClr val="ffffff"/>
                </a:solidFill>
                <a:latin typeface="Arial"/>
              </a:rPr>
              <a:t>y</a:t>
            </a:r>
            <a:endParaRPr b="0" lang="en-US" sz="8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atural Log 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9528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83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x = ln x   </a:t>
            </a: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(for x &gt; 0)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Note that the natural log and the number e “cancel” each other ou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the logarithm in exponential form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1 =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 =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ite the exponent in log for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6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5/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2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1:20:00Z</dcterms:created>
  <dc:creator>jnewman</dc:creator>
  <dc:description/>
  <dc:language>en-US</dc:language>
  <cp:lastModifiedBy>abeason</cp:lastModifiedBy>
  <dcterms:modified xsi:type="dcterms:W3CDTF">2009-06-02T16:02:09Z</dcterms:modified>
  <cp:revision>7</cp:revision>
  <dc:subject/>
  <dc:title>Lesson 3.2</dc:title>
</cp:coreProperties>
</file>